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D0AC-330D-439A-860B-02C56D87C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8BF2-86B2-440C-8009-DDF6F198E3D7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ed Installation Guide 07-12-11 Daniel Castronu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ed 01-31-05, Mishah Sal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3E7-B466-4A5D-99C2-D12ADA6A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E3C-59A0-4872-AC00-3DE068F1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33B-ABD8-4F05-BA84-79C943FA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E15-39CC-4342-9065-4A963DCC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68A6-4A16-4624-BD28-C9144021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388C-C0B6-4529-9077-F9D65A1E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FC1E-8CAC-404E-9E59-3909A77B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1B25-6D84-48F2-AFC8-DA423486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361C-37E8-4DE3-A3BE-44929494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A851-EAE4-47F0-ABA1-2064CC06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DAD6-B12F-4CDC-91FF-C6658C12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F32-22E9-44B0-B9EA-5CD1B2D9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FE1A-95C5-4372-B1F1-1D5C619D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BB4C-A48D-408D-A056-4A12AB6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85DA-5BCF-4F8D-95B9-A8C96326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D537-356E-4D6E-8AF0-881E5FCA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AE3B-7A36-40E2-9040-044B9F70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5B2-1752-4D76-B35C-0B486E23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50A-62C4-4E80-A419-C0792F4C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5A0-59C5-4097-B071-CE46639F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CCC-9CF9-4038-8C80-AF908833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44A-9E72-4C9E-91D1-135797E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C5D-6480-4200-B57B-30BF55D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E9E-4C03-46C1-B418-2BD16EA1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E87F-E472-4BE7-8E7A-0900F7377F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80BF-3D75-498D-903E-FE09EF636F18}" type="slidenum"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ilohome.com/nxtldraw/ldconfig_stone.ldr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draw.org/Downloads-req-viewdownload-cid-1.html" TargetMode="External"/><Relationship Id="rId2" Type="http://schemas.openxmlformats.org/officeDocument/2006/relationships/hyperlink" Target="http://www.ldraw.org/Article14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66"/>
                </a:solidFill>
                <a:latin typeface="Arial Black"/>
              </a:rPr>
              <a:t>MLCAD Guide</a:t>
            </a:r>
            <a:r>
              <a:rPr b="0" lang="en-US" sz="4800" spc="-1" strike="noStrike">
                <a:solidFill>
                  <a:srgbClr val="ccff66"/>
                </a:solidFill>
                <a:latin typeface="Arial Black"/>
              </a:rPr>
              <a:t>	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Jacek Ortiz-Blizinsk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ugust 1, 2004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stallat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LCAD will open to the following scree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052720" y="2438280"/>
            <a:ext cx="46479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stallat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File, then click Scan Parts and respond “Yes” to any following pop-up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53434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stallat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f you are not getting correct colors for NXT parts save this file and open it with MLCAD (right click open with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3b5cf"/>
                </a:solidFill>
                <a:uFillTx/>
                <a:latin typeface="Arial"/>
                <a:hlinkClick r:id="rId1"/>
              </a:rPr>
              <a:t>http://www.philohome.com/nxtldraw/ldconfig_stone.ld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ut an NXT part in the model and select it.  Hit the “More” button at the right of the color palette, and click "Save as default colors"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2057400" y="5638680"/>
            <a:ext cx="46576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MLCAD Layou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51451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4"/>
          <p:cNvSpPr/>
          <p:nvPr/>
        </p:nvSpPr>
        <p:spPr>
          <a:xfrm>
            <a:off x="838080" y="198108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990720" y="36576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38080" y="5943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7772400" y="281952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924680" y="480060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0" y="1905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Toolbar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0" y="358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Parts Lis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7924680" y="25146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Active Parts Lis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58200" y="4800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View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657600" y="4343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339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477120" y="4343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D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6477120" y="6019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3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0" y="57913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Parts Display Box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Organizing Layou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Organize the “Toolbars” in such a manner that you have space to wor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on the toolbar “Handle”, hold the left mouse button down, drag to desired location and release mouse butto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4876920"/>
            <a:ext cx="5791320" cy="601560"/>
          </a:xfrm>
          <a:prstGeom prst="rect">
            <a:avLst/>
          </a:prstGeom>
          <a:ln w="0">
            <a:noFill/>
          </a:ln>
        </p:spPr>
      </p:pic>
      <p:sp>
        <p:nvSpPr>
          <p:cNvPr id="139" name="Oval 5"/>
          <p:cNvSpPr/>
          <p:nvPr/>
        </p:nvSpPr>
        <p:spPr>
          <a:xfrm>
            <a:off x="2286000" y="4876920"/>
            <a:ext cx="228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286000" y="44956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Organizing Layou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42" name="video.avi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6294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86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Finding Part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ook through entire Parts Li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ing on a part will display it and others in the Parts Display Box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Bricks with holes are in “Technic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arch “Other” if a part cannot be foun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086600" y="1676520"/>
            <a:ext cx="163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Adding Piece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and drag the piece from Parts List onto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View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8" name="video2.avi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943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92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View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: Keep track of Views!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on’t mix up Top/Bottom, Left/Right, etc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hanging Views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ight click on Vie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“View Angle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lect desired vie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7530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View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3D View can be rotated by clicking and dragging the object in the 3D View Window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video3.avi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50292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60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stallation (Windows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Overview of interfac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Usag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Transformation Ba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ivided into two sections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vement: moves selected piece along an axi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otation: rotates selected piece along an axi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133720" y="4724280"/>
            <a:ext cx="5181480" cy="37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2133720" y="51055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|------ MOVEMENT ------|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72428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|------ ROTATION -------|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olor Ba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oloring selected piece a desired colo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“More” to color piece a non-preset colo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72439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Zoom Ba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Used for viewing object from closer/further distanc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100% : actual siz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ower than 100%: further aw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igher than 100%: clos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4104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Parts Lis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rom the main toolbar click Extras, then Reports, then Par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67053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Parts Lis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ists parts of robo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xtremely simple and useful for complete cost estimat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4552920" cy="3381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304920" y="54864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te: Parts List can even be saved to a text file. Please save to Desktop for easy retrieval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3352680" y="624852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onclus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LCAD is an easy to use way of creating a computerized version of a robo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xtremely useful when designing and brainstorm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reatly simplifies cost estimatio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troduct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LCA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s a program that allows the user to create designs using Lego pieces in 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3D representatio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ardest part: finding piec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DRAW is a set of parts used by MLCA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stallat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ownload the LDraw All-In-One-Installer and Parts Library at </a:t>
            </a:r>
            <a:r>
              <a:rPr b="0" lang="en-US" sz="3200" spc="-1" strike="noStrike" u="sng">
                <a:solidFill>
                  <a:srgbClr val="73b5cf"/>
                </a:solidFill>
                <a:uFillTx/>
                <a:latin typeface="Arial"/>
                <a:hlinkClick r:id="rId1"/>
              </a:rPr>
              <a:t>http://www.ldraw.org/Downloads-req-viewdownload-cid-1.htm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ownload the unofficial parts at </a:t>
            </a:r>
            <a:r>
              <a:rPr b="0" lang="en-US" sz="3200" spc="-1" strike="noStrike" u="sng">
                <a:solidFill>
                  <a:srgbClr val="73b5cf"/>
                </a:solidFill>
                <a:uFillTx/>
                <a:latin typeface="Arial"/>
                <a:hlinkClick r:id="rId2"/>
              </a:rPr>
              <a:t>http://www.ldraw.org/Article14.htm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stallat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xtract the installer to your Desktop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6576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stallation - MLCAD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ocate the installation file and double click on i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480060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stallat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828800" y="2583000"/>
            <a:ext cx="5562720" cy="4275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533520" y="1523880"/>
            <a:ext cx="83055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ke sure MLCAD is checked when selecting packages to instal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stallat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3520" y="1523880"/>
            <a:ext cx="83055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stall the parts library to your LDraw director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f you are using the zip file, unzip it into the directory above that (if C:\LDraw unzip to C:\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Unzip the unofficial parts into the LDraw director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Installation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1523880"/>
            <a:ext cx="83055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rt MLCA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location MLCAD checks for LDraw may need to be updated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op up will appear, edit it to use the following path (or where ever you installed LDraw) and click O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0" name="Picture 2" descr="C:\Users\Administrator\Desktop\ldrawdir.png"/>
          <p:cNvPicPr/>
          <p:nvPr/>
        </p:nvPicPr>
        <p:blipFill>
          <a:blip r:embed="rId1"/>
          <a:stretch/>
        </p:blipFill>
        <p:spPr>
          <a:xfrm>
            <a:off x="2286000" y="4419720"/>
            <a:ext cx="3822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8:19:59Z</dcterms:created>
  <dc:creator>Jacek Blizinski</dc:creator>
  <dc:description/>
  <dc:language>en-US</dc:language>
  <cp:lastModifiedBy>James</cp:lastModifiedBy>
  <dcterms:modified xsi:type="dcterms:W3CDTF">2011-08-16T13:43:35Z</dcterms:modified>
  <cp:revision>73</cp:revision>
  <dc:subject/>
  <dc:title>MLCAD Guide </dc:title>
</cp:coreProperties>
</file>